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29.jpeg" ContentType="image/jpeg"/>
  <Override PartName="/ppt/media/image30.png" ContentType="image/png"/>
  <Override PartName="/ppt/media/image37.jpeg" ContentType="image/jpeg"/>
  <Override PartName="/ppt/media/image2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7.jpeg" ContentType="image/jpeg"/>
  <Override PartName="/ppt/media/image38.jpeg" ContentType="image/jpeg"/>
  <Override PartName="/ppt/media/image1.wmf" ContentType="image/x-wmf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2BD1-EE71-4AB6-8FD3-3DDD13C14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FB3C-63B7-4FAF-AD3C-14E62115C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C465-380A-4A8A-8D91-CE8CFFA35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F57E-FF11-4A71-B920-DE3477927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063C7-7FB7-424D-BEDF-88BBADD41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5CBE5-0BCA-44E1-BBF2-4DAC1E34F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EE572-4420-4223-BD73-FBFD86397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13395-EE98-457B-AA4B-FA7A733FB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1570E-1BCD-4D56-AF05-739A34B97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E4499-5659-474E-B458-67DD7DBE0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BA8FF-5454-4837-9F64-49B90B53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AB50-A3CE-4D21-B0E8-08FAA970A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1D6B3-F15B-4C2A-A31E-80A1E665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A7EDD-0EFF-4364-AC5D-A8E68252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C505F-EB55-4051-850C-8A1C09609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B5793-3DB4-4A09-8374-7632F9EE5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D2708-E0E4-4731-83A7-541D58DF6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E407-A81E-4181-9FF2-387575902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E045-B51C-49DA-9B34-07F96CA7B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446D-F2F1-4EBC-9BE3-83001B218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7C67-22C1-4A36-8CC7-A719699D1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B01F-69DA-4227-8D18-543A4FF5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C724-2BE7-4303-AED3-B80D1AD4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48A7-8ACD-4B0E-9BF3-BD427DFA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D195A-1D27-4443-8EE1-4C0ECF7212D6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7FD56-FBEF-4B51-8187-A5A893F129DA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flickr.com/photos/clydehouse/154395861/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flickr.com/photos/clydehouse/154392703/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flickr.com/photos/clydehouse/154395762/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flickr.com/photos/jrempel/363053872/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flickr.com/photos/piallos/330333746/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flickr.com/photos/piallos/330333792/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flickr.com/photos/waltzing_broonhilda/265907869/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flickr.com/photos/waltzing_broonhilda/265911880/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flickr.com/photos/unmirasol/192189147/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flickr.com/photos/humphryevatt/114138474/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ndy"/>
              </a:rPr>
              <a:t>13.2:  War in Europe Begin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295280" y="2895120"/>
            <a:ext cx="56404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ndy"/>
              </a:rPr>
              <a:t>The weak responses of world leaders to Hitler’s aggression leads to WWII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Hitler Invades Poland/Blitzkrieg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304920" y="800280"/>
            <a:ext cx="8076960" cy="60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5.  “Phony War”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f1311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fter Poland invasion nothing happened for the next few month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f1311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Hitler goes around the Maginot Line through the Netherlands, Belgium, and Luxembourg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0" name="" descr="European Map"/>
          <p:cNvPicPr/>
          <p:nvPr/>
        </p:nvPicPr>
        <p:blipFill>
          <a:blip r:embed="rId1"/>
          <a:stretch/>
        </p:blipFill>
        <p:spPr>
          <a:xfrm>
            <a:off x="4114800" y="914400"/>
            <a:ext cx="46656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Maginot Lin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Maginot line started after WWI; ineffectiv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French spent millions on its developmen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762120" y="21337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52800" y="2467080"/>
            <a:ext cx="1071360" cy="116028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8200" bIns="46800" anchor="t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6" name="" descr="Fort de Schoenenbour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779400"/>
            <a:ext cx="9144000" cy="562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059280" y="2838600"/>
            <a:ext cx="1071360" cy="116028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8200" bIns="46800" anchor="t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8" name="" descr="Fort de Schoenenbour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096920"/>
            <a:ext cx="914400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3056040" y="2513160"/>
            <a:ext cx="1071360" cy="116028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8200" bIns="46800" anchor="t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1" name="" descr="Fort de Schoenenbour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65120"/>
            <a:ext cx="914400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057480" y="2502000"/>
            <a:ext cx="1071720" cy="116028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8200" bIns="46800" anchor="t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3" name="" descr="Maginot line fresh air filters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8568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1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054240" y="2387520"/>
            <a:ext cx="1071720" cy="116064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8200" bIns="46800" anchor="t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6" name="" descr="Maginot Line - Hatten - Hesch bunk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90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ndy"/>
              </a:rPr>
              <a:t>A.  Path to War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lnSpc>
                <a:spcPct val="100000"/>
              </a:lnSpc>
              <a:spcBef>
                <a:spcPts val="799"/>
              </a:spcBef>
              <a:buClr>
                <a:srgbClr val="2f1311"/>
              </a:buClr>
              <a:buFont typeface="And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ndy"/>
              </a:rPr>
              <a:t>Fall of Austria &amp; Czechoslovakia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1035000" indent="-577800">
              <a:lnSpc>
                <a:spcPct val="100000"/>
              </a:lnSpc>
              <a:spcBef>
                <a:spcPts val="700"/>
              </a:spcBef>
              <a:buClr>
                <a:srgbClr val="2f1311"/>
              </a:buClr>
              <a:buSzPct val="80000"/>
              <a:buFont typeface="Andy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ndy"/>
              </a:rPr>
              <a:t>Hitler takes over Austria 1938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1035000" indent="-577800">
              <a:lnSpc>
                <a:spcPct val="100000"/>
              </a:lnSpc>
              <a:spcBef>
                <a:spcPts val="700"/>
              </a:spcBef>
              <a:buClr>
                <a:srgbClr val="2f1311"/>
              </a:buClr>
              <a:buSzPct val="80000"/>
              <a:buFont typeface="Andy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ndy"/>
              </a:rPr>
              <a:t>What does the League of Nations do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60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1035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295280" y="2666880"/>
            <a:ext cx="5943600" cy="39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054240" y="2387520"/>
            <a:ext cx="1071720" cy="116064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8200" bIns="46800" anchor="t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8" name="" descr="Maginot Line - Hatten - Hesch bunk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460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054240" y="2387520"/>
            <a:ext cx="1071720" cy="116064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8200" bIns="46800" anchor="t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0" name="" descr="Maginot Line - Ouvrage du Four a Chaux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90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516480" y="2044800"/>
            <a:ext cx="1071360" cy="116028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8200" bIns="46800" anchor="t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2" name="" descr="Maginot Line - Ouvrage du Four a Chaux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684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057480" y="2427120"/>
            <a:ext cx="1071720" cy="116064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8200" bIns="46800" anchor="t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4" name="" descr="Cómo combatir el ocio bajo la Línea Maginot / How to deal with idleness under the Maginot Lin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23760"/>
            <a:ext cx="9144000" cy="659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054240" y="2387520"/>
            <a:ext cx="1071720" cy="116064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8200" bIns="46800" anchor="t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6" name="" descr="sospel - looking south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68400"/>
            <a:ext cx="899172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6.  The Miracle at Dunkirk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2f1311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Last French port Hitler does not captur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b.  Allows Allied troops to regroup and evacuate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.  &gt; 330,000 troops saved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190760" y="190512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0" name="" descr="European Map"/>
          <p:cNvPicPr/>
          <p:nvPr/>
        </p:nvPicPr>
        <p:blipFill>
          <a:blip r:embed="rId1"/>
          <a:stretch/>
        </p:blipFill>
        <p:spPr>
          <a:xfrm>
            <a:off x="4191120" y="1143000"/>
            <a:ext cx="4487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.  Vichy Franc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361656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Hitler captures Northern Franc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Marshal Petain heads Vichy gov’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Gen Charles de Gaulle exiled in GB vowing to regain Franc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4" name="" descr="Philippe Pétain"/>
          <p:cNvPicPr/>
          <p:nvPr/>
        </p:nvPicPr>
        <p:blipFill>
          <a:blip r:embed="rId1"/>
          <a:stretch/>
        </p:blipFill>
        <p:spPr>
          <a:xfrm>
            <a:off x="4038480" y="1219320"/>
            <a:ext cx="2571840" cy="36115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Charles de Gaulle"/>
          <p:cNvPicPr/>
          <p:nvPr/>
        </p:nvPicPr>
        <p:blipFill>
          <a:blip r:embed="rId2"/>
          <a:stretch/>
        </p:blipFill>
        <p:spPr>
          <a:xfrm>
            <a:off x="6572160" y="2994120"/>
            <a:ext cx="2571840" cy="38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The Fall of Franc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http://www.bbc.co.uk/history/interactive/animations/wwtwo_map_fall_france/index_embed.shtm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WWII: German Advances1939-1941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rcRect l="0" t="55763" r="6818" b="0"/>
          <a:stretch/>
        </p:blipFill>
        <p:spPr>
          <a:xfrm>
            <a:off x="0" y="781200"/>
            <a:ext cx="8534520" cy="60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File:Second world war europe 1941-1942 map en.svg"/>
          <p:cNvPicPr/>
          <p:nvPr/>
        </p:nvPicPr>
        <p:blipFill>
          <a:blip r:embed="rId1"/>
          <a:stretch/>
        </p:blipFill>
        <p:spPr>
          <a:xfrm>
            <a:off x="914400" y="3240"/>
            <a:ext cx="754380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ndy"/>
              </a:rPr>
              <a:t>c.  Czechoslovakia</a:t>
            </a:r>
            <a:r>
              <a:rPr b="0" lang="en-US" sz="4000" spc="-1" strike="noStrike">
                <a:solidFill>
                  <a:srgbClr val="f7d47d"/>
                </a:solidFill>
                <a:latin typeface="Andy"/>
              </a:rPr>
              <a:t>	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9660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ndy"/>
              </a:rPr>
              <a:t>	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ndy"/>
              </a:rPr>
              <a:t>Hitler wants to take over the Sudetenland-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ndy"/>
              </a:rPr>
              <a:t>contains a large German speaking populatio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526000" y="1676520"/>
            <a:ext cx="36180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0" name="" descr="Map of Czechoslovakia"/>
          <p:cNvPicPr/>
          <p:nvPr/>
        </p:nvPicPr>
        <p:blipFill>
          <a:blip r:embed="rId1"/>
          <a:stretch/>
        </p:blipFill>
        <p:spPr>
          <a:xfrm>
            <a:off x="914400" y="1162080"/>
            <a:ext cx="6934320" cy="34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D.  Battle of Britai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Goal: for Hitler to conquer GB by…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Blitzkrieg + air fleet invasio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Luftwaffe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vs. 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Royal Air Force (RAF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In the beginning, whose winning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echnology that helped RAF win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RADAR; could see in the dark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Hitler calls off invasion of Britai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179360" y="2652840"/>
            <a:ext cx="6786720" cy="1554120"/>
            <a:chOff x="1179360" y="2652840"/>
            <a:chExt cx="6786720" cy="1554120"/>
          </a:xfrm>
        </p:grpSpPr>
        <p:sp>
          <p:nvSpPr>
            <p:cNvPr id="274" name=""/>
            <p:cNvSpPr/>
            <p:nvPr/>
          </p:nvSpPr>
          <p:spPr>
            <a:xfrm>
              <a:off x="1179360" y="2652840"/>
              <a:ext cx="678672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1179360" y="2652840"/>
              <a:ext cx="6786720" cy="1554120"/>
              <a:chOff x="1179360" y="2652840"/>
              <a:chExt cx="6786720" cy="1554120"/>
            </a:xfrm>
          </p:grpSpPr>
          <p:sp>
            <p:nvSpPr>
              <p:cNvPr id="276" name=""/>
              <p:cNvSpPr/>
              <p:nvPr/>
            </p:nvSpPr>
            <p:spPr>
              <a:xfrm>
                <a:off x="1179360" y="2652840"/>
                <a:ext cx="6786720" cy="116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277" name=""/>
              <p:cNvGrpSpPr/>
              <p:nvPr/>
            </p:nvGrpSpPr>
            <p:grpSpPr>
              <a:xfrm>
                <a:off x="1179360" y="2652840"/>
                <a:ext cx="893880" cy="1554120"/>
                <a:chOff x="1179360" y="2652840"/>
                <a:chExt cx="893880" cy="155412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1179360" y="2652840"/>
                  <a:ext cx="893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grpSp>
              <p:nvGrpSpPr>
                <p:cNvPr id="279" name=""/>
                <p:cNvGrpSpPr/>
                <p:nvPr/>
              </p:nvGrpSpPr>
              <p:grpSpPr>
                <a:xfrm>
                  <a:off x="1179360" y="2652840"/>
                  <a:ext cx="893880" cy="1554120"/>
                  <a:chOff x="1179360" y="2652840"/>
                  <a:chExt cx="893880" cy="1554120"/>
                </a:xfrm>
              </p:grpSpPr>
              <p:sp>
                <p:nvSpPr>
                  <p:cNvPr id="280" name=""/>
                  <p:cNvSpPr/>
                  <p:nvPr/>
                </p:nvSpPr>
                <p:spPr>
                  <a:xfrm>
                    <a:off x="1179360" y="2652840"/>
                    <a:ext cx="893880" cy="1160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1179360" y="2652840"/>
                    <a:ext cx="893880" cy="1554120"/>
                    <a:chOff x="1179360" y="2652840"/>
                    <a:chExt cx="893880" cy="155412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1179360" y="2652840"/>
                      <a:ext cx="893880" cy="847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1179360" y="2652840"/>
                      <a:ext cx="893880" cy="1554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f1311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7200" spc="-1" strike="noStrike">
                          <a:solidFill>
                            <a:srgbClr val="2f1311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2f1311"/>
                          </a:solidFill>
                          <a:latin typeface="Times New Roman"/>
                        </a:rPr>
                        <a:t>              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British Hawker Hurricane (bomber)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0" y="1189080"/>
            <a:ext cx="9144000" cy="47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Supermarine Spitfire (bomber)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44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Messerschmitt BF 10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07800" y="176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rado AR 240 (heavy fighter)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42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0" y="122400"/>
            <a:ext cx="9144000" cy="66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3251160" y="2585880"/>
            <a:ext cx="9144000" cy="360"/>
          </a:xfrm>
          <a:prstGeom prst="rect">
            <a:avLst/>
          </a:prstGeom>
          <a:solidFill>
            <a:srgbClr val="ff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-31320" bIns="-31320" anchor="t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0" y="955800"/>
            <a:ext cx="9144000" cy="590220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Soviet w/German POW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Europe prior to WWI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0" y="853920"/>
            <a:ext cx="9144000" cy="60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Europe after WWI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0" y="1011240"/>
            <a:ext cx="9144000" cy="58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Europe 1990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0" y="860400"/>
            <a:ext cx="914400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ndy"/>
              </a:rPr>
              <a:t>2.  The Munich Crisis (1938)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219320"/>
            <a:ext cx="7386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35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ndy"/>
              </a:rPr>
              <a:t>a.  Munich Pac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409760" indent="-495360">
              <a:lnSpc>
                <a:spcPct val="100000"/>
              </a:lnSpc>
              <a:spcBef>
                <a:spcPts val="700"/>
              </a:spcBef>
              <a:buClr>
                <a:srgbClr val="2f1311"/>
              </a:buClr>
              <a:buSzPct val="70000"/>
              <a:buFont typeface="Andy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ndy"/>
              </a:rPr>
              <a:t>“</a:t>
            </a:r>
            <a:r>
              <a:rPr b="0" lang="en-US" sz="2800" spc="-1" strike="noStrike">
                <a:solidFill>
                  <a:srgbClr val="2f1311"/>
                </a:solidFill>
                <a:latin typeface="Andy"/>
              </a:rPr>
              <a:t>trio,” France, GB, German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1409760" indent="-495360">
              <a:lnSpc>
                <a:spcPct val="100000"/>
              </a:lnSpc>
              <a:spcBef>
                <a:spcPts val="700"/>
              </a:spcBef>
              <a:buClr>
                <a:srgbClr val="2f1311"/>
              </a:buClr>
              <a:buSzPct val="70000"/>
              <a:buFont typeface="Andy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ndy"/>
              </a:rPr>
              <a:t>Sudentlands given to Hitler!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60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447920" y="2971800"/>
            <a:ext cx="5333760" cy="36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Europe 1995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0" y="831960"/>
            <a:ext cx="9144000" cy="60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ndy"/>
              </a:rPr>
              <a:t>b.  Winston Churchill &amp; </a:t>
            </a:r>
            <a:r>
              <a:rPr b="1" i="1" lang="en-US" sz="3200" spc="-1" strike="noStrike" u="sng">
                <a:solidFill>
                  <a:srgbClr val="f7d47d"/>
                </a:solidFill>
                <a:uFillTx/>
                <a:latin typeface="Andy"/>
              </a:rPr>
              <a:t>appeasement </a:t>
            </a:r>
            <a:r>
              <a:rPr b="1" lang="en-US" sz="3200" spc="-1" strike="noStrike">
                <a:solidFill>
                  <a:srgbClr val="f7d47d"/>
                </a:solidFill>
                <a:latin typeface="Andy"/>
              </a:rPr>
              <a:t>–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ndy"/>
              </a:rPr>
              <a:t>giving up principles to pacify an aggressor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4500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Winston Churchill; PM of GB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Elected in 1940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197000" y="1143000"/>
            <a:ext cx="6751440" cy="4572000"/>
            <a:chOff x="1197000" y="1143000"/>
            <a:chExt cx="6751440" cy="4572000"/>
          </a:xfrm>
        </p:grpSpPr>
        <p:sp>
          <p:nvSpPr>
            <p:cNvPr id="210" name=""/>
            <p:cNvSpPr/>
            <p:nvPr/>
          </p:nvSpPr>
          <p:spPr>
            <a:xfrm>
              <a:off x="1197000" y="1143000"/>
              <a:ext cx="67514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1197000" y="1143000"/>
              <a:ext cx="6571800" cy="4572000"/>
              <a:chOff x="1197000" y="1143000"/>
              <a:chExt cx="6571800" cy="4572000"/>
            </a:xfrm>
          </p:grpSpPr>
          <p:sp>
            <p:nvSpPr>
              <p:cNvPr id="212" name=""/>
              <p:cNvSpPr/>
              <p:nvPr/>
            </p:nvSpPr>
            <p:spPr>
              <a:xfrm>
                <a:off x="1197000" y="1143000"/>
                <a:ext cx="65718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213" name=""/>
              <p:cNvGrpSpPr/>
              <p:nvPr/>
            </p:nvGrpSpPr>
            <p:grpSpPr>
              <a:xfrm>
                <a:off x="1197000" y="1143000"/>
                <a:ext cx="3160440" cy="4572000"/>
                <a:chOff x="1197000" y="1143000"/>
                <a:chExt cx="3160440" cy="457200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1197000" y="1143000"/>
                  <a:ext cx="31604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1197000" y="1143000"/>
                  <a:ext cx="3160440" cy="457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f1311"/>
                      </a:solidFill>
                      <a:latin typeface="Times New Roman"/>
                    </a:rPr>
                    <a:t>  </a:t>
                  </a:r>
                  <a:endParaRPr b="0" lang="en-US" sz="2400" spc="-1" strike="noStrike">
                    <a:solidFill>
                      <a:srgbClr val="2f1311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2f1311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2f1311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Winston Churchill was named TIME's Man of the Year in 1940 and 1949</a:t>
                  </a:r>
                  <a:endParaRPr b="0" lang="en-US" sz="2400" spc="-1" strike="noStrike">
                    <a:solidFill>
                      <a:srgbClr val="2f1311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79af7d"/>
                      </a:solidFill>
                      <a:latin typeface="Times New Roman"/>
                    </a:rPr>
                    <a:t>     </a:t>
                  </a:r>
                  <a:r>
                    <a:rPr b="1" lang="en-US" sz="2400" spc="-1" strike="noStrike">
                      <a:solidFill>
                        <a:srgbClr val="79af7d"/>
                      </a:solidFill>
                      <a:latin typeface="Arial"/>
                      <a:ea typeface="Arial"/>
                    </a:rPr>
                    <a:t>"An appeaser is one who feeds a crocodile — hoping it will eat him last."</a:t>
                  </a:r>
                  <a:br>
                    <a:rPr sz="2400"/>
                  </a:br>
                  <a:br>
                    <a:rPr sz="2400"/>
                  </a:br>
                  <a:r>
                    <a:rPr b="1" lang="en-US" sz="2400" spc="-1" strike="noStrike">
                      <a:solidFill>
                        <a:srgbClr val="79af7d"/>
                      </a:solidFill>
                      <a:latin typeface="Arial"/>
                      <a:ea typeface="Arial"/>
                    </a:rPr>
                    <a:t>— Winston Churchill</a:t>
                  </a:r>
                  <a:endParaRPr b="0" lang="en-US" sz="2400" spc="-1" strike="noStrike">
                    <a:solidFill>
                      <a:srgbClr val="2f1311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7000" spc="-1" strike="noStrike">
                      <a:solidFill>
                        <a:srgbClr val="2f1311"/>
                      </a:solidFill>
                      <a:latin typeface="Times New Roman"/>
                    </a:rPr>
                    <a:t> </a:t>
                  </a:r>
                  <a:r>
                    <a:rPr b="0" lang="en-US" sz="2400" spc="-1" strike="noStrike">
                      <a:solidFill>
                        <a:srgbClr val="2f1311"/>
                      </a:solidFill>
                      <a:latin typeface="Times New Roman"/>
                    </a:rPr>
                    <a:t>                                                   </a:t>
                  </a:r>
                  <a:endParaRPr b="0" lang="en-US" sz="24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4572000" y="1600200"/>
            <a:ext cx="40006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3.  Hitler Demands Danzig, Poland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.  Is 90% Germa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b.  Britain and France vow to protect Poland if Germany invade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.  Sept. 1, 1939: Hitler invades Poland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d.  Sept. 3, 1939:  France &amp; GB declares war on Germany; the war has begun!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4.  The Nazi-Soviet Pac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9660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2f1311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greement between Stalin and Hitle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f1311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talin wants capitalist nations to go against each other; USSR saf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f1311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Hitler’s goal: avoid a two-front wa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f1311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ret deal:  divide Poland between  the two countrie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ndy"/>
              </a:rPr>
              <a:t>B.  The War Begins </a:t>
            </a:r>
            <a:br>
              <a:rPr sz="4000"/>
            </a:br>
            <a:r>
              <a:rPr b="0" lang="en-US" sz="4000" spc="-1" strike="noStrike">
                <a:solidFill>
                  <a:srgbClr val="f7d47d"/>
                </a:solidFill>
                <a:latin typeface="Andy"/>
              </a:rPr>
              <a:t>September 3, 1939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36162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lnSpc>
                <a:spcPct val="100000"/>
              </a:lnSpc>
              <a:spcBef>
                <a:spcPts val="601"/>
              </a:spcBef>
              <a:buClr>
                <a:srgbClr val="2f1311"/>
              </a:buClr>
              <a:buFont typeface="And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ndy"/>
              </a:rPr>
              <a:t>Germany attacks Poland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506520" indent="-506520">
              <a:lnSpc>
                <a:spcPct val="100000"/>
              </a:lnSpc>
              <a:spcBef>
                <a:spcPts val="601"/>
              </a:spcBef>
              <a:buClr>
                <a:srgbClr val="2f1311"/>
              </a:buClr>
              <a:buFont typeface="And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2f1311"/>
                </a:solidFill>
                <a:uFillTx/>
                <a:latin typeface="Andy"/>
              </a:rPr>
              <a:t>Blitzkrieg-lightning war; surprise, nonstop attack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506520" indent="-506520">
              <a:lnSpc>
                <a:spcPct val="100000"/>
              </a:lnSpc>
              <a:spcBef>
                <a:spcPts val="601"/>
              </a:spcBef>
              <a:buClr>
                <a:srgbClr val="2f1311"/>
              </a:buClr>
              <a:buFont typeface="And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ndy"/>
              </a:rPr>
              <a:t>Germany’s goal: to cut Polish supply line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506520" indent="-506520">
              <a:lnSpc>
                <a:spcPct val="100000"/>
              </a:lnSpc>
              <a:spcBef>
                <a:spcPts val="601"/>
              </a:spcBef>
              <a:buClr>
                <a:srgbClr val="2f1311"/>
              </a:buClr>
              <a:buFont typeface="And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ndy"/>
              </a:rPr>
              <a:t>End result – Germany controls Poland by the end of the month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4038480" y="1600200"/>
            <a:ext cx="451512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8T14:30:38Z</dcterms:created>
  <dc:creator>School District U46</dc:creator>
  <dc:description/>
  <dc:language>en-US</dc:language>
  <cp:lastModifiedBy>School District U46</cp:lastModifiedBy>
  <dcterms:modified xsi:type="dcterms:W3CDTF">2012-01-31T20:47:01Z</dcterms:modified>
  <cp:revision>24</cp:revision>
  <dc:subject/>
  <dc:title>Slide 1</dc:title>
</cp:coreProperties>
</file>